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48E5-62AA-4997-AEB1-FD7D00019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1581-C52D-4D29-84E8-DC4ED2ABD5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C62C-1A8A-4D4B-862A-7FC1F8B5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A17E-467D-422D-AA91-19D68C0D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2315-FBC4-4B7A-AB98-4A358A3E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8531-8571-4FAB-AB05-DFD33215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8256-B42E-4762-96ED-3394C6EE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66A0-7E1A-4046-B915-C9DA971F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5856-62B4-49D0-8458-7F7F711C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4104-A12D-4894-BC3C-16CBA88C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61FA-B5E2-4D7D-AFDD-E815F51A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2C52-694E-458B-964E-C134CDF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25F1-B8EA-4F21-BD78-AEA3EBB8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875A-8D8D-4E70-89ED-AE35E51E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5FA3-DFDC-4794-8D2A-A8E3143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8F42-7735-4FB5-8EA0-08EB285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5068-1FA5-4102-93AB-6F402EF0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FBB3-5FE0-417D-93C5-A7CB1570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8D12-FE29-48F8-A34E-8D8DC811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5D0B-EEC1-40B8-8AEF-EB6AEBD9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4476-07D6-4DFA-A26E-8832B44F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F4AE-60DC-466D-902E-DF3C24E3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7114-9E8B-4D2B-8CCF-6C1FF375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A576-1DE0-4702-AAE1-043E70C4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A63F-4C40-4237-B6F7-A9049B3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2F31-ADFC-4F04-BC0E-1640E7E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3E25-9B89-44E8-AF1D-F278DD76C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36F9-4502-45CB-A5FD-6B1DE614AA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Heat Generation in Electronic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al Management of Elect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 José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chanical Engineering Depar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ill be power dissipated due to the equivalent series resistance (ES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dissipation due to equivalent series inductance is negligible compared to E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6" descr="ESRTable"/>
          <p:cNvPicPr/>
          <p:nvPr/>
        </p:nvPicPr>
        <p:blipFill>
          <a:blip r:embed="rId3"/>
          <a:stretch/>
        </p:blipFill>
        <p:spPr>
          <a:xfrm>
            <a:off x="4648320" y="2073240"/>
            <a:ext cx="4038480" cy="358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ductors and Transform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or 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stor 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 of resistance associated with these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4"/>
          <p:cNvSpPr/>
          <p:nvPr/>
        </p:nvSpPr>
        <p:spPr>
          <a:xfrm>
            <a:off x="4038480" y="1905120"/>
            <a:ext cx="83844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4267080" y="3048120"/>
            <a:ext cx="83844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6" descr="Inductor"/>
          <p:cNvPicPr/>
          <p:nvPr/>
        </p:nvPicPr>
        <p:blipFill>
          <a:blip r:embed="rId4"/>
          <a:stretch/>
        </p:blipFill>
        <p:spPr>
          <a:xfrm>
            <a:off x="5181480" y="1447920"/>
            <a:ext cx="3038760" cy="94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9" name="Picture 7" descr="Transformer"/>
          <p:cNvPicPr/>
          <p:nvPr/>
        </p:nvPicPr>
        <p:blipFill>
          <a:blip r:embed="rId5"/>
          <a:stretch/>
        </p:blipFill>
        <p:spPr>
          <a:xfrm>
            <a:off x="5257800" y="2514600"/>
            <a:ext cx="2892600" cy="149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sistance for Inductors and Transformer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ing Resistance – Resistance that occurs due to the winding on the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Resistance – Losses that occur due to use of a ferromagnetic 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steresis Loss – Power dissipation due to the reversal of the magnetic domains in the 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dy Current Loss – Heat generated from the conductive current flowing in the metallic core induced by changing fl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tive Dev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dissipation for all standard-product active integrated circuits can be obtained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data she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d from laboratory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evices – power dissipation is constant with f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OS devices – power dissipation is a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der function of frequency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der function of device 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ower Dissipation in a CMOS Ga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consumption is composed of three compon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from charging and discharging of the capacitance of transistor gates and interconnect lines during the changing of logic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ises 70-90% of the power dissip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ower Dissipation in a CMOS Ga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short-circui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s when pull-up or pull-down transistors are briefly on during a change of state in the output 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ises 10-30% of dissipated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 Lea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ises 1% of dissipated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conne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onnections are the connections between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dissipated can be found with Joule’s Law where resistance of the interconnection is given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3352680" y="4343400"/>
                <a:ext cx="25909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6"/>
              <p:cNvSpPr txBox="1"/>
              <p:nvPr/>
            </p:nvSpPr>
            <p:spPr>
              <a:xfrm>
                <a:off x="3073320" y="5486400"/>
                <a:ext cx="34639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ance in Ohms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in oh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ength of material in c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os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ctional area on materi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re Bon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power devices (i.e. logic and small analog devices) usually have bonds fabricated from gold or aluminum with a diameter of .001 i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ligible power is dissipated by a single bond but when many bonds exist these elements should not be ig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ower devices usually have aluminum bond with diameters ranging from .005 to .025 i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amounts of power are dissipated from these b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re Bon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5" name="Picture 12" descr="wire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6" name="Picture 13" descr="P1011045"/>
          <p:cNvPicPr/>
          <p:nvPr/>
        </p:nvPicPr>
        <p:blipFill>
          <a:blip r:embed="rId2"/>
          <a:stretch/>
        </p:blipFill>
        <p:spPr>
          <a:xfrm>
            <a:off x="4648320" y="1968480"/>
            <a:ext cx="4038480" cy="379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ibbon Bon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8" name="Picture 15" descr="Ribbon"/>
          <p:cNvPicPr/>
          <p:nvPr/>
        </p:nvPicPr>
        <p:blipFill>
          <a:blip r:embed="rId1"/>
          <a:stretch/>
        </p:blipFill>
        <p:spPr>
          <a:xfrm>
            <a:off x="228600" y="2286000"/>
            <a:ext cx="40384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9" name="Picture 16" descr="P1011044"/>
          <p:cNvPicPr/>
          <p:nvPr/>
        </p:nvPicPr>
        <p:blipFill>
          <a:blip r:embed="rId2"/>
          <a:stretch/>
        </p:blipFill>
        <p:spPr>
          <a:xfrm>
            <a:off x="4495680" y="2209680"/>
            <a:ext cx="4343400" cy="292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eat in Electronic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is an unavoidable by-product of operating electro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 of increased temperature in electro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reli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metric changes may occur in an electronic device’s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ckage P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pins are the physical connector on an integrated circuit package that carries signals into and out of an integrated circu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ns are made from low-resistance metal and may be enclosed in glass or ceramic b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dissipate can still be calculate with the relationship outlined for other inter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ckage P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3" name="Picture 8" descr="P1011050"/>
          <p:cNvPicPr/>
          <p:nvPr/>
        </p:nvPicPr>
        <p:blipFill>
          <a:blip r:embed="rId1"/>
          <a:stretch/>
        </p:blipFill>
        <p:spPr>
          <a:xfrm>
            <a:off x="838080" y="1371600"/>
            <a:ext cx="3335400" cy="2362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4" name="Picture 9" descr="P1011052"/>
          <p:cNvPicPr/>
          <p:nvPr/>
        </p:nvPicPr>
        <p:blipFill>
          <a:blip r:embed="rId2"/>
          <a:stretch/>
        </p:blipFill>
        <p:spPr>
          <a:xfrm>
            <a:off x="838080" y="3962520"/>
            <a:ext cx="335304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5" name="Picture 10" descr="P1011053"/>
          <p:cNvPicPr/>
          <p:nvPr/>
        </p:nvPicPr>
        <p:blipFill>
          <a:blip r:embed="rId3"/>
          <a:stretch/>
        </p:blipFill>
        <p:spPr>
          <a:xfrm>
            <a:off x="4648320" y="1371600"/>
            <a:ext cx="3962160" cy="2362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6" name="Picture 12" descr="P1011051"/>
          <p:cNvPicPr/>
          <p:nvPr/>
        </p:nvPicPr>
        <p:blipFill>
          <a:blip r:embed="rId4"/>
          <a:stretch/>
        </p:blipFill>
        <p:spPr>
          <a:xfrm>
            <a:off x="4648320" y="3957480"/>
            <a:ext cx="3962160" cy="249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ubstra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different metallizations can be used for interconnections on subst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etallization will have its own resistance that will dissipat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et resistivity is used in calculation due to the fact that conductors are much wider than they are th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ubstra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istance of a substrate can be found with the sheet resis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ivity of the conductors will vary with temperature (TCR may be important in some substrate calcu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4"/>
              <p:cNvSpPr txBox="1"/>
              <p:nvPr/>
            </p:nvSpPr>
            <p:spPr>
              <a:xfrm>
                <a:off x="6019920" y="1905120"/>
                <a:ext cx="14605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6"/>
              <p:cNvSpPr txBox="1"/>
              <p:nvPr/>
            </p:nvSpPr>
            <p:spPr>
              <a:xfrm>
                <a:off x="6095880" y="5029200"/>
                <a:ext cx="1447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8"/>
              <p:cNvSpPr txBox="1"/>
              <p:nvPr/>
            </p:nvSpPr>
            <p:spPr>
              <a:xfrm>
                <a:off x="4876920" y="3352680"/>
                <a:ext cx="3884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eet resistivity in ohms/square</m:t>
                        </m:r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ulk resistivity in ohms/length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ickness of fil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arious Substrate Constru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5" name="Picture 4" descr="P1011056"/>
          <p:cNvPicPr/>
          <p:nvPr/>
        </p:nvPicPr>
        <p:blipFill>
          <a:blip r:embed="rId1"/>
          <a:stretch/>
        </p:blipFill>
        <p:spPr>
          <a:xfrm>
            <a:off x="2286000" y="1447920"/>
            <a:ext cx="4962600" cy="191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6" name="Picture 5" descr="P1011061"/>
          <p:cNvPicPr/>
          <p:nvPr/>
        </p:nvPicPr>
        <p:blipFill>
          <a:blip r:embed="rId2"/>
          <a:stretch/>
        </p:blipFill>
        <p:spPr>
          <a:xfrm>
            <a:off x="762120" y="3581280"/>
            <a:ext cx="348588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7" name="Picture 6" descr="P1011062"/>
          <p:cNvPicPr/>
          <p:nvPr/>
        </p:nvPicPr>
        <p:blipFill>
          <a:blip r:embed="rId3"/>
          <a:stretch/>
        </p:blipFill>
        <p:spPr>
          <a:xfrm>
            <a:off x="5029200" y="3581280"/>
            <a:ext cx="343548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ubstrate Metallization Properti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9" name="Picture 4" descr="P1011058"/>
          <p:cNvPicPr/>
          <p:nvPr/>
        </p:nvPicPr>
        <p:blipFill>
          <a:blip r:embed="rId1"/>
          <a:stretch/>
        </p:blipFill>
        <p:spPr>
          <a:xfrm>
            <a:off x="1219320" y="1295280"/>
            <a:ext cx="6480000" cy="264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0" name="Picture 5" descr="P1011060"/>
          <p:cNvPicPr/>
          <p:nvPr/>
        </p:nvPicPr>
        <p:blipFill>
          <a:blip r:embed="rId2"/>
          <a:stretch/>
        </p:blipFill>
        <p:spPr>
          <a:xfrm>
            <a:off x="838080" y="4267080"/>
            <a:ext cx="2895840" cy="231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1" name="Picture 6" descr="P1011057"/>
          <p:cNvPicPr/>
          <p:nvPr/>
        </p:nvPicPr>
        <p:blipFill>
          <a:blip r:embed="rId3"/>
          <a:stretch/>
        </p:blipFill>
        <p:spPr>
          <a:xfrm>
            <a:off x="4343400" y="4419720"/>
            <a:ext cx="3863880" cy="204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gh-Frequency Lo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 is evenly distributed throughout a cross section of w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frequency increases charge carrier move to the edges because it is easier to move in a conductor in the 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stance increases due to the distribution of charge carr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6" descr="P1011055"/>
          <p:cNvPicPr/>
          <p:nvPr/>
        </p:nvPicPr>
        <p:blipFill>
          <a:blip r:embed="rId4"/>
          <a:stretch/>
        </p:blipFill>
        <p:spPr>
          <a:xfrm>
            <a:off x="5029200" y="1447920"/>
            <a:ext cx="3268800" cy="242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5" name="Picture 7" descr="P1011054"/>
          <p:cNvPicPr/>
          <p:nvPr/>
        </p:nvPicPr>
        <p:blipFill>
          <a:blip r:embed="rId5"/>
          <a:stretch/>
        </p:blipFill>
        <p:spPr>
          <a:xfrm>
            <a:off x="4724280" y="4114800"/>
            <a:ext cx="3846600" cy="253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wer Dissip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flowing through active and passive components results in power dissipation and increased temper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power dissipated by a device is a function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ype of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o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h from the device to the heat 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mponents Where Power Dissipation Occur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240" y="2324160"/>
            <a:ext cx="4343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ssive De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ac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uc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7960" y="2324160"/>
            <a:ext cx="4267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ive De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is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grated Circu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conne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ral The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dissipated will be a function of the type of current that it rece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D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4"/>
              <p:cNvSpPr txBox="1"/>
              <p:nvPr/>
            </p:nvSpPr>
            <p:spPr>
              <a:xfrm>
                <a:off x="3124080" y="3505320"/>
                <a:ext cx="2872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6"/>
              <p:cNvSpPr txBox="1"/>
              <p:nvPr/>
            </p:nvSpPr>
            <p:spPr>
              <a:xfrm>
                <a:off x="2590920" y="4648320"/>
                <a:ext cx="40384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wer in Watts or Joules/second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urrent in Amps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oltage drop across the dev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ral The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4"/>
              <p:cNvSpPr txBox="1"/>
              <p:nvPr/>
            </p:nvSpPr>
            <p:spPr>
              <a:xfrm>
                <a:off x="2590920" y="2362320"/>
                <a:ext cx="39621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8"/>
              <p:cNvSpPr txBox="1"/>
              <p:nvPr/>
            </p:nvSpPr>
            <p:spPr>
              <a:xfrm>
                <a:off x="990720" y="4191120"/>
                <a:ext cx="7167600" cy="19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ean Power Los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aveform Period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stantaneous value of current through the elemen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stantaneous value of voltage through the element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wer limit of conduction for the current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pper limit of conduction for the curr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is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Dissip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2362320" y="1905120"/>
            <a:ext cx="838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0"/>
              <p:cNvSpPr txBox="1"/>
              <p:nvPr/>
            </p:nvSpPr>
            <p:spPr>
              <a:xfrm>
                <a:off x="1600200" y="3657600"/>
                <a:ext cx="601992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Joule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42" name="Picture 23" descr="Resistor"/>
          <p:cNvPicPr/>
          <p:nvPr/>
        </p:nvPicPr>
        <p:blipFill>
          <a:blip r:embed="rId3"/>
          <a:stretch/>
        </p:blipFill>
        <p:spPr>
          <a:xfrm>
            <a:off x="3581280" y="1447920"/>
            <a:ext cx="2905200" cy="89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Temperature Coefficient of Resistance (TCR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R characterizes the amount of drift that takes place in resistance values over temperature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R usually has such a small effect that (even over large temperature gradients) that it can be ignored for resis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7" descr="TCR"/>
          <p:cNvPicPr/>
          <p:nvPr/>
        </p:nvPicPr>
        <p:blipFill>
          <a:blip r:embed="rId3"/>
          <a:stretch/>
        </p:blipFill>
        <p:spPr>
          <a:xfrm>
            <a:off x="4648320" y="2514600"/>
            <a:ext cx="4038480" cy="281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deal capacitor would not dissipate any power under a DC cur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l capacitor can be modeled with the equivalent series circuit be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2362320" y="1600200"/>
            <a:ext cx="838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5" descr="Capacitor"/>
          <p:cNvPicPr/>
          <p:nvPr/>
        </p:nvPicPr>
        <p:blipFill>
          <a:blip r:embed="rId4"/>
          <a:stretch/>
        </p:blipFill>
        <p:spPr>
          <a:xfrm>
            <a:off x="3429000" y="1295280"/>
            <a:ext cx="3368520" cy="8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0" name="Picture 6" descr="ESR"/>
          <p:cNvPicPr/>
          <p:nvPr/>
        </p:nvPicPr>
        <p:blipFill>
          <a:blip r:embed="rId5"/>
          <a:stretch/>
        </p:blipFill>
        <p:spPr>
          <a:xfrm>
            <a:off x="1676520" y="5410080"/>
            <a:ext cx="5597280" cy="11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6:42:02Z</dcterms:created>
  <dc:creator>Brandon Mikel Munis</dc:creator>
  <dc:description/>
  <dc:language>en-US</dc:language>
  <cp:lastModifiedBy>nokamoto</cp:lastModifiedBy>
  <dcterms:modified xsi:type="dcterms:W3CDTF">2015-07-14T16:50:30Z</dcterms:modified>
  <cp:revision>16</cp:revision>
  <dc:subject/>
  <dc:title>Heat Generation in Electronics</dc:title>
</cp:coreProperties>
</file>